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1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28.png" ContentType="image/png"/>
  <Override PartName="/ppt/media/image10.jpeg" ContentType="image/jpeg"/>
  <Override PartName="/ppt/media/image9.png" ContentType="image/png"/>
  <Override PartName="/ppt/media/image39.png" ContentType="image/png"/>
  <Override PartName="/ppt/media/image45.jpeg" ContentType="image/jpeg"/>
  <Override PartName="/ppt/media/image14.jpeg" ContentType="image/jpeg"/>
  <Override PartName="/ppt/media/image41.jpeg" ContentType="image/jpeg"/>
  <Override PartName="/ppt/media/image44.png" ContentType="image/png"/>
  <Override PartName="/ppt/media/image13.jpeg" ContentType="image/jpeg"/>
  <Override PartName="/ppt/media/image43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002-51BA-428E-8F79-6DD3DC48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42A-B7AA-409E-923E-4D776ACD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36534-E2AA-4B92-8AFB-489E3C76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CD64F-BA22-4D29-A7C0-984F4993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43D28-3F12-48A3-AF69-4790735B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2CCC8-7432-49DD-8F04-92CBFC7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373AE-B119-4D7F-B4F3-3A4975BE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D7981-6D0F-4546-BE74-DFE04D77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70CFD-674E-40A8-A18B-0B60B37A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FEBDA-3B80-4752-B7DA-8314D3F3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6B1E7-DC77-494F-A643-A20A3DA2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29070-1936-48A8-BF33-5846956F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35D-2958-4FA6-97AF-E6B2DB7A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04ED3-E87E-4715-B1F9-BE5820D1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38E41-5374-4951-8087-9969C87E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1BBDC-24F8-4AD8-A611-A1C4E1AC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C06F3-8E6F-4E98-A3DA-8F84775D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0877E-DCD5-46E9-B12E-920554DC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FB23C-D20B-45A0-8407-D549DB1A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21950-1004-402A-8DDC-EF88636D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99355-44A9-4393-B2E2-00F74CCF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00D63-56C2-4C63-8525-8177F43E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12839-34F2-4960-BC3C-FC3F2A18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30C-7090-44E0-9DE0-F368E7B3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8681A-1132-4F8F-A5B2-2412A701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EFAFB-291B-41F4-A1AD-65046FF1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A13B5-193F-42E9-A9C4-A1FB9EEE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2DE07-C134-4D4B-A2BE-75772F91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F42CA-FA8F-427C-8C07-6EE635B7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4B48C-1D87-461D-BF47-0AAE58B8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A2EC4-2A28-46FE-B775-EAD83F44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54E02-DCF3-424E-B6DE-349AE26B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9C80B-A966-473C-98BB-71855433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A74E9-8AFE-4A96-A034-EA9C85F0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7396-AD20-45E1-AB71-8F0EDBF6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6232C-563A-4ED0-9534-8FBD1E52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73A8F-5144-4954-BAFB-D18946EB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F1D10-DF3C-447D-8A5C-975D397D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7A6A1-C917-4915-BE47-A6FE9F2A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74D13-2C03-47DA-BF97-9A93980D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E93C2-5004-4C86-8579-F9A0A828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08B27-17DE-4A24-B653-4FF7166E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CB714-9EE3-40F5-86FD-3469EB3D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18D03-E9E9-4BDD-8463-A96B427F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0EE38-BCA2-42AE-A75F-1144D845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F6FC-DA32-4E30-A28D-04A1790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21DCD-CEA7-4A52-B22A-D9A1DBB1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6C840-7B30-48D2-BEAE-718720B0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32197-E8EE-4012-882E-FD908DAF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63923-F0B4-478D-950C-6F405C79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BE154-202F-4869-83C7-C8A6D00F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01B17-3A24-4C3E-B782-06D518E6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C882A-E602-46D2-B215-704E03EA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1A8E6-6896-4E9F-ABCD-CE209F1F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CD387-EB04-4A9D-8297-FB0E6412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78D33-53FD-4DD0-9F60-BE7CDDCA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CD20-7710-47B9-BBC6-7704AF62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9CEC9-5089-4F4A-A65E-EE5D5E1D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EFFE1-99F1-4480-98DA-8CA18B8F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11D2D-7B81-4546-AB36-E55CC6A7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9CDB2-0A29-4CAB-A4DC-E60344B5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E97C3-F897-49BE-9360-B74F5078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E7C98-D058-4F12-AAEF-A68CDA1D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F64FE-6536-4A32-90F7-816EFEC6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75C336-BA36-4FDF-9849-FDB7C596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D464E-1CBE-4B56-9212-EFD6C200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CE1B09-1F8D-4A9B-A9D3-9C9C2AEA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C739-ADD0-45A7-9E9E-17DA0CDC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1B485-1F0F-4AFA-BE4E-C130362B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B7B22-4DF3-47A8-B901-C8623482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8C691-37F3-4560-8CE3-AB79F93B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A0949-FF7B-462C-84B0-4885B1A5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EB7FB-61AB-4ACE-8562-E74921F1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1D10E-0B35-4739-9313-151F8B2D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B4B98-92A4-40D9-BF76-BEDCDAD9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C5B9A-A0D1-4B01-83F4-901082B0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16FC9-0670-4DBE-AF3D-B4AFD056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26CA-F6B2-4954-8545-4982E8D7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1EB8-035B-4B3A-BB16-E591FDB9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3341-976B-422D-9E9D-D88CC849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C2A-9E96-430D-9734-DCD0ED54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440F-D6DC-4B4D-8ECB-56274B20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0501-7F5F-49C3-B69C-AB1EAEED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42AA-BA4C-4756-B65A-C57DEF34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6B65-E5BB-4B8A-A617-3FD77435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4A5F-8EAE-4CE7-903F-7869B1E8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002B-B94C-4EC2-9592-EE12B86B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ECCE-5207-46CE-AFC1-B0C625F0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F74A-02F2-40A7-B3A7-A60F3384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3338-EDF3-4F12-B3E4-7B875CDA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4136F-7CC0-4F58-891C-5A13E8FE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594-52CB-4FF2-B6D5-3F17EFFA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3D17-7FA5-4EDD-8B9B-C42EA0A8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1276-BEB2-4261-BFC0-D5C7CB05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04356-8274-4B4C-B10E-3AE63F3C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CBA3F-4B76-4C13-BEB1-19B097EB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5A84-E52A-4A7D-BAEB-93435DA4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7C20-7D13-4332-B6E2-443A442B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E2CB-82C2-439A-8FF9-4CA901EE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00422-2E3A-49BD-B979-5F5D5175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C31F-DB17-473A-AB89-8AF554F4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D80F-E99F-47E7-BA5B-A3DB5CAA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D03-399A-4656-ADD7-5A93FC40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5F5D-F90E-4AAC-BE80-B6425599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3331A-47EF-4B39-B20A-567BAEDB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E152C-0F8C-4E5E-828F-2B134CC1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9193-B591-4BB6-8C6B-C914C733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92749-70A1-49AC-B3BC-56DF153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196A-4E57-41ED-A787-E785E9E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AD10-54C7-47CE-85C6-043C0F61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45DA2-686F-4EC2-9F5A-CC01DDF8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77DD-D82C-4EA4-98BA-CB3CEE64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1B44E-EDAA-412A-8AB7-A1A8A55D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83D-8EEC-4024-8AA0-223D9D70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DE3D0-B2A5-4332-9F0A-59F2E85F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9B86C-BD19-4134-86D1-BB252124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67567-9D63-449B-A5BB-0E40D4CD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BFE30-033B-4926-98BC-220C7390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61C0B-3298-4DE0-B915-33D41F03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43F11-C789-43B9-8ECC-F963B39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FF690-4C90-4051-9B22-3E2AE292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94501-514C-4813-896F-6CF18112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27695-8FBF-451B-8CDC-F4BBEC83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3657D-F8F6-44D7-AFE9-5599760D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B34-11B8-4645-9B29-57209CFA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5A66D-3670-4449-851B-A06E34F4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28DDB-5AE5-4A5B-9B9A-C6F7DF89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199D2-A3E9-4FB2-9108-A16AAB50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A79EF-8FBE-4ED4-962A-2B4A11F7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06A68-A7DD-4515-9A59-303FBF29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DC5FC-421E-4E9B-88DB-902F7004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3554B-D05F-4672-A118-50B701D9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72D7-82F9-445C-84CC-B250DB3A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59AF0-539E-4183-843E-388C5C68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838BB-CC2E-4CC2-BA21-9947F1D6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BC4-D711-4F87-B7ED-399F051A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C30D3-2436-4479-8E5E-4A687699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05950-96A4-4BA1-8F6B-7AB726F8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E1797-3376-47C7-9423-94F597ED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0707B-FA4D-42CC-AFC3-9CFEB5F7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4081E-54F1-40D6-9316-EFE21737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60051-33F4-4467-A6F6-9EF0C3FE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E7FD-6B93-49DA-BCC8-E9710F9B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416A0-7CD5-454A-92CC-130F2314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3251E-6E9E-410A-8D9A-5C88143D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E6A02-7705-4011-AC52-2810535F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8A8-9EFD-45E5-9D13-F92B27C3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62267-38B9-4E89-9FA4-F475B5C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20BB9-086E-4911-88CD-244BE2D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7D9DC-39F6-40AC-B853-0DB746FD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39301-C9B7-4B38-AD60-041FB7D6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30EA2-BF77-4C53-AF6A-BD3DEC88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480DA-B3C8-413F-85B0-80DAD366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88321-BD06-4F1C-A9F0-B28F145E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ED065-470D-4CBF-BEFA-B7182419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09731-808E-4587-B49E-117D0C01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5430D-70D0-44C3-8DC3-27B56861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26B-F871-4C6C-883A-826EFF0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F1C40-16B9-4722-8274-0701F40F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6B3E9-C5AC-47F4-8860-4E7B0DFC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7F78-CEE3-42F9-984C-C6CE9313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A7C81-8649-4AC8-A13D-F424226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3ABDA-6F2E-478E-9BBC-F4BC3FD5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A1C0B-80D0-4EB6-A70D-3C74612C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BBC94-94BE-445B-B633-4FBEBC8D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27588-96FF-4353-BE4E-4DEC87B3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1975E-044C-47B8-9D3B-261F850C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E2262-C898-4609-A8F3-7B0C2245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rojecto Suporte Institucional ao MINAG implementada pela G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7223-970F-45A6-9A31-A4586F4DCB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CDAE-A6A9-4510-82DE-67A15F6ECE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A253-C433-4E9E-BB95-2BFE8D1A27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E213-D2A8-43BD-9D92-289062A510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5E77-8500-44D0-AB5C-3D7028BF0A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0195-5126-40F7-8910-30BD05CE03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F1F2-F581-43AD-9F32-846DF0B791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6652-3F66-4FCE-8028-783F664834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rojecto Suporte Institucional ao MINAG </a:t>
            </a:r>
            <a:br>
              <a:rPr sz="1100"/>
            </a:br>
            <a:r>
              <a:rPr b="0" lang="de-DE" sz="1000" spc="-1" strike="noStrike">
                <a:solidFill>
                  <a:srgbClr val="898989"/>
                </a:solidFill>
                <a:latin typeface="Calibri"/>
              </a:rPr>
              <a:t>implementada pela GF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85F-221A-4EC3-B09F-914BA88F65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B988-E815-47A2-B2D6-EE24F1DAF2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8891-53A5-4FC4-B2B3-3AFADA6121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20CF-390B-4B18-8BFC-1B0DBFA930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1FE3-6328-415B-868F-E6D7A3B30E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A55D-FE42-4728-BE39-C4602C7A7E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25892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4f81bd"/>
                </a:solidFill>
                <a:latin typeface="Calibri"/>
              </a:rPr>
              <a:t>Total Quality Management como Ferramenta de Gestão Orientada em Resulta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hteck 3"/>
          <p:cNvSpPr/>
          <p:nvPr/>
        </p:nvSpPr>
        <p:spPr>
          <a:xfrm>
            <a:off x="1187280" y="2781360"/>
            <a:ext cx="705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História do Conc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lementos C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Significado no Sector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daptação dos Princípios em Instituições Multilater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presentação do modelo TQM (Total Quality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 que é necessário para implementar um sistema de qualid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Grafik 6" descr="latin america.bmp"/>
          <p:cNvPicPr/>
          <p:nvPr/>
        </p:nvPicPr>
        <p:blipFill>
          <a:blip r:embed="rId1"/>
          <a:stretch/>
        </p:blipFill>
        <p:spPr>
          <a:xfrm>
            <a:off x="4140360" y="2276640"/>
            <a:ext cx="2066760" cy="252072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4f81bd"/>
                </a:solidFill>
                <a:latin typeface="Calibri"/>
              </a:rPr>
              <a:t>Competição</a:t>
            </a:r>
            <a:r>
              <a:rPr b="0" lang="de-DE" sz="2400" spc="-1" strike="noStrike">
                <a:solidFill>
                  <a:srgbClr val="4f81bd"/>
                </a:solidFill>
                <a:latin typeface="Calibri"/>
              </a:rPr>
              <a:t> entre </a:t>
            </a:r>
            <a:r>
              <a:rPr b="0" lang="pt-PT" sz="2400" spc="-1" strike="noStrike">
                <a:solidFill>
                  <a:srgbClr val="4f81bd"/>
                </a:solidFill>
                <a:latin typeface="Calibri"/>
              </a:rPr>
              <a:t>países e regi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Grafik 3" descr="asia.jpg"/>
          <p:cNvPicPr/>
          <p:nvPr/>
        </p:nvPicPr>
        <p:blipFill>
          <a:blip r:embed="rId2"/>
          <a:stretch/>
        </p:blipFill>
        <p:spPr>
          <a:xfrm>
            <a:off x="1258920" y="2276640"/>
            <a:ext cx="2379600" cy="2160360"/>
          </a:xfrm>
          <a:prstGeom prst="rect">
            <a:avLst/>
          </a:prstGeom>
          <a:ln w="0">
            <a:noFill/>
          </a:ln>
        </p:spPr>
      </p:pic>
      <p:pic>
        <p:nvPicPr>
          <p:cNvPr id="718" name="Grafik 4" descr="0_map_europe_political_2001_enlarged.jpg"/>
          <p:cNvPicPr/>
          <p:nvPr/>
        </p:nvPicPr>
        <p:blipFill>
          <a:blip r:embed="rId3"/>
          <a:stretch/>
        </p:blipFill>
        <p:spPr>
          <a:xfrm>
            <a:off x="3203640" y="4005360"/>
            <a:ext cx="1954080" cy="2519280"/>
          </a:xfrm>
          <a:prstGeom prst="rect">
            <a:avLst/>
          </a:prstGeom>
          <a:ln w="0">
            <a:noFill/>
          </a:ln>
        </p:spPr>
      </p:pic>
      <p:pic>
        <p:nvPicPr>
          <p:cNvPr id="719" name="Grafik 5" descr="afrca map.bmp"/>
          <p:cNvPicPr/>
          <p:nvPr/>
        </p:nvPicPr>
        <p:blipFill>
          <a:blip r:embed="rId4"/>
          <a:stretch/>
        </p:blipFill>
        <p:spPr>
          <a:xfrm>
            <a:off x="611280" y="4149720"/>
            <a:ext cx="2004840" cy="2158920"/>
          </a:xfrm>
          <a:prstGeom prst="rect">
            <a:avLst/>
          </a:prstGeom>
          <a:ln w="0">
            <a:noFill/>
          </a:ln>
        </p:spPr>
      </p:pic>
      <p:pic>
        <p:nvPicPr>
          <p:cNvPr id="720" name="Grafik 7" descr="usa map.bmp"/>
          <p:cNvPicPr/>
          <p:nvPr/>
        </p:nvPicPr>
        <p:blipFill>
          <a:blip r:embed="rId5"/>
          <a:stretch/>
        </p:blipFill>
        <p:spPr>
          <a:xfrm>
            <a:off x="6588000" y="2133720"/>
            <a:ext cx="1729080" cy="2158920"/>
          </a:xfrm>
          <a:prstGeom prst="rect">
            <a:avLst/>
          </a:prstGeom>
          <a:ln w="0">
            <a:noFill/>
          </a:ln>
        </p:spPr>
      </p:pic>
      <p:cxnSp>
        <p:nvCxnSpPr>
          <p:cNvPr id="721" name="Gerade Verbindung mit Pfeil 9"/>
          <p:cNvCxnSpPr/>
          <p:nvPr/>
        </p:nvCxnSpPr>
        <p:spPr>
          <a:xfrm flipH="1" flipV="1">
            <a:off x="2916000" y="3284280"/>
            <a:ext cx="3528000" cy="1513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2" name="Gerade Verbindung mit Pfeil 11"/>
          <p:cNvCxnSpPr/>
          <p:nvPr/>
        </p:nvCxnSpPr>
        <p:spPr>
          <a:xfrm flipH="1" flipV="1">
            <a:off x="2195640" y="3428280"/>
            <a:ext cx="3961080" cy="1585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3" name="Gerade Verbindung mit Pfeil 14"/>
          <p:cNvCxnSpPr/>
          <p:nvPr/>
        </p:nvCxnSpPr>
        <p:spPr>
          <a:xfrm flipH="1" flipV="1">
            <a:off x="5650920" y="3644640"/>
            <a:ext cx="865800" cy="115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4" name="Textfeld 20"/>
          <p:cNvSpPr/>
          <p:nvPr/>
        </p:nvSpPr>
        <p:spPr>
          <a:xfrm>
            <a:off x="5202360" y="508464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s novas f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ç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s na economia do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4f81bd"/>
                </a:solidFill>
                <a:latin typeface="Calibri"/>
              </a:rPr>
              <a:t>Competição entre Ministé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/>
          <a:stretch/>
        </p:blipFill>
        <p:spPr>
          <a:xfrm>
            <a:off x="5153040" y="1989000"/>
            <a:ext cx="3990960" cy="20480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5153040" cy="7812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7000920" cy="16858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5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5781600" cy="9810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5"/>
          <a:stretch/>
        </p:blipFill>
        <p:spPr>
          <a:xfrm>
            <a:off x="5580000" y="4941720"/>
            <a:ext cx="2409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558ed5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558ed5"/>
                </a:solidFill>
                <a:latin typeface="Calibri"/>
              </a:rPr>
              <a:t>Apresentação do modelo TQM (Total Quality Manageme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2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1258920" y="1709640"/>
            <a:ext cx="684216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201080" cy="452592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2" descr=""/>
          <p:cNvPicPr/>
          <p:nvPr/>
        </p:nvPicPr>
        <p:blipFill>
          <a:blip r:embed="rId1"/>
          <a:stretch/>
        </p:blipFill>
        <p:spPr>
          <a:xfrm>
            <a:off x="971640" y="1601640"/>
            <a:ext cx="6985080" cy="499608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Grafik 11" descr="an-einem-Strang-ziehen2.jpg"/>
          <p:cNvPicPr/>
          <p:nvPr/>
        </p:nvPicPr>
        <p:blipFill>
          <a:blip r:embed="rId1"/>
          <a:stretch/>
        </p:blipFill>
        <p:spPr>
          <a:xfrm>
            <a:off x="6732720" y="5157720"/>
            <a:ext cx="1935000" cy="14526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>
            <a:off x="468000" y="1412640"/>
            <a:ext cx="8280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4f81bd"/>
                </a:solidFill>
                <a:latin typeface="Calibri"/>
              </a:rPr>
              <a:t>Credo do sistema TQM : </a:t>
            </a: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Fazer certo as coisas cer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5" name="Diagramm 4" descr=""/>
          <p:cNvPicPr/>
          <p:nvPr/>
        </p:nvPicPr>
        <p:blipFill>
          <a:blip r:embed="rId2"/>
          <a:stretch/>
        </p:blipFill>
        <p:spPr>
          <a:xfrm>
            <a:off x="0" y="2206800"/>
            <a:ext cx="9156600" cy="4303440"/>
          </a:xfrm>
          <a:prstGeom prst="rect">
            <a:avLst/>
          </a:prstGeom>
          <a:ln w="0">
            <a:noFill/>
          </a:ln>
        </p:spPr>
      </p:pic>
      <p:pic>
        <p:nvPicPr>
          <p:cNvPr id="746" name="Grafik 6" descr="grandma.jpg"/>
          <p:cNvPicPr/>
          <p:nvPr/>
        </p:nvPicPr>
        <p:blipFill>
          <a:blip r:embed="rId3"/>
          <a:stretch/>
        </p:blipFill>
        <p:spPr>
          <a:xfrm>
            <a:off x="6227640" y="2060640"/>
            <a:ext cx="1366920" cy="1079280"/>
          </a:xfrm>
          <a:prstGeom prst="rect">
            <a:avLst/>
          </a:prstGeom>
          <a:ln w="0">
            <a:noFill/>
          </a:ln>
        </p:spPr>
      </p:pic>
      <p:pic>
        <p:nvPicPr>
          <p:cNvPr id="747" name="Grafik 5" descr="fröhliches gesicht junge.jpg"/>
          <p:cNvPicPr/>
          <p:nvPr/>
        </p:nvPicPr>
        <p:blipFill>
          <a:blip r:embed="rId4"/>
          <a:stretch/>
        </p:blipFill>
        <p:spPr>
          <a:xfrm>
            <a:off x="1692360" y="1989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7" descr="ernte früchte.bmp"/>
          <p:cNvPicPr/>
          <p:nvPr/>
        </p:nvPicPr>
        <p:blipFill>
          <a:blip r:embed="rId5"/>
          <a:stretch/>
        </p:blipFill>
        <p:spPr>
          <a:xfrm>
            <a:off x="971640" y="3213000"/>
            <a:ext cx="1190520" cy="8478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8" descr="baumwoll ernte.bmp"/>
          <p:cNvPicPr/>
          <p:nvPr/>
        </p:nvPicPr>
        <p:blipFill>
          <a:blip r:embed="rId6"/>
          <a:stretch/>
        </p:blipFill>
        <p:spPr>
          <a:xfrm>
            <a:off x="684360" y="42210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9" descr="weizen.bmp"/>
          <p:cNvPicPr/>
          <p:nvPr/>
        </p:nvPicPr>
        <p:blipFill>
          <a:blip r:embed="rId7"/>
          <a:stretch/>
        </p:blipFill>
        <p:spPr>
          <a:xfrm>
            <a:off x="1187280" y="5229360"/>
            <a:ext cx="1171800" cy="780840"/>
          </a:xfrm>
          <a:prstGeom prst="rect">
            <a:avLst/>
          </a:prstGeom>
          <a:ln w="0">
            <a:noFill/>
          </a:ln>
        </p:spPr>
      </p:pic>
      <p:pic>
        <p:nvPicPr>
          <p:cNvPr id="751" name="Grafik 10" descr="händekreis.jpg"/>
          <p:cNvPicPr/>
          <p:nvPr/>
        </p:nvPicPr>
        <p:blipFill>
          <a:blip r:embed="rId8"/>
          <a:stretch/>
        </p:blipFill>
        <p:spPr>
          <a:xfrm>
            <a:off x="3924360" y="3860640"/>
            <a:ext cx="1617480" cy="107964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2" descr="http://www.burks.de/burksblog/pix/2008/04/250408_1gr.jpg"/>
          <p:cNvPicPr/>
          <p:nvPr/>
        </p:nvPicPr>
        <p:blipFill>
          <a:blip r:embed="rId2"/>
          <a:stretch/>
        </p:blipFill>
        <p:spPr>
          <a:xfrm>
            <a:off x="2700360" y="2637000"/>
            <a:ext cx="3787920" cy="2517480"/>
          </a:xfrm>
          <a:prstGeom prst="rect">
            <a:avLst/>
          </a:prstGeom>
          <a:ln w="0">
            <a:noFill/>
          </a:ln>
        </p:spPr>
      </p:pic>
      <p:pic>
        <p:nvPicPr>
          <p:cNvPr id="754" name="Inhaltsplatzhalter 3" descr=""/>
          <p:cNvPicPr/>
          <p:nvPr/>
        </p:nvPicPr>
        <p:blipFill>
          <a:blip r:embed="rId3"/>
          <a:stretch/>
        </p:blipFill>
        <p:spPr>
          <a:xfrm>
            <a:off x="536400" y="192096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755" name="Explosion 2 4"/>
          <p:cNvSpPr/>
          <p:nvPr/>
        </p:nvSpPr>
        <p:spPr>
          <a:xfrm>
            <a:off x="2843280" y="2637000"/>
            <a:ext cx="1944720" cy="1008000"/>
          </a:xfrm>
          <a:prstGeom prst="irregularSeal2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f497d"/>
                </a:solidFill>
                <a:latin typeface="Calibri"/>
              </a:rPr>
              <a:t>Ar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Explosion 2 5"/>
          <p:cNvSpPr/>
          <p:nvPr/>
        </p:nvSpPr>
        <p:spPr>
          <a:xfrm>
            <a:off x="3924360" y="3645000"/>
            <a:ext cx="1942920" cy="1008000"/>
          </a:xfrm>
          <a:prstGeom prst="irregularSeal2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f497d"/>
                </a:solidFill>
                <a:latin typeface="Calibri"/>
              </a:rPr>
              <a:t>Ar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feld 6"/>
          <p:cNvSpPr/>
          <p:nvPr/>
        </p:nvSpPr>
        <p:spPr>
          <a:xfrm>
            <a:off x="539640" y="191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Evitar atr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o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Grafik 10" descr="gegeneinander.bmp"/>
          <p:cNvPicPr/>
          <p:nvPr/>
        </p:nvPicPr>
        <p:blipFill>
          <a:blip r:embed="rId4"/>
          <a:stretch/>
        </p:blipFill>
        <p:spPr>
          <a:xfrm>
            <a:off x="684360" y="2637000"/>
            <a:ext cx="12380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558ed5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558ed5"/>
                </a:solidFill>
                <a:latin typeface="Calibri"/>
              </a:rPr>
              <a:t>O que é necessário para implementar um sistema de qualida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558ed5"/>
                </a:solidFill>
                <a:latin typeface="Calibri"/>
              </a:rPr>
              <a:t>História do Concei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itel 1"/>
          <p:cNvSpPr/>
          <p:nvPr/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4f81bd"/>
                </a:solidFill>
                <a:latin typeface="Calibri"/>
              </a:rPr>
              <a:t>Alguns axiomas estratégicos do TQ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rientar tudo para a satisfação do cliente (internos = colegas que dependem do meu </a:t>
            </a:r>
            <a:r>
              <a:rPr b="0" i="1" lang="pt-PT" sz="2400" spc="-1" strike="noStrike">
                <a:solidFill>
                  <a:srgbClr val="000000"/>
                </a:solidFill>
                <a:latin typeface="Calibri"/>
              </a:rPr>
              <a:t>input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, extern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bordagem de cima para baixo: O compromisso dos gestores no topo é necessário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bordagem de baixo para cima: Mobilizaçao  e informação dos funcionários em todos os níve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riar círculos de qualidade com auto-responsabilidade  em todos os níveis que garantam processos de qualidade (manter ou /criar e mantê-l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ssegurar uma boa comunicação entre todos os níve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riar uma atmosfera em que fraquezas possam ser  discutidas de maneira construtiva (aprender através de err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4f81bd"/>
                </a:solidFill>
                <a:latin typeface="Calibri"/>
              </a:rPr>
              <a:t>Obrigada pela sua atençã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Grafik 4" descr="wie-geschmiert_Jupiter_16ac2e7641.jpg"/>
          <p:cNvPicPr/>
          <p:nvPr/>
        </p:nvPicPr>
        <p:blipFill>
          <a:blip r:embed="rId1"/>
          <a:stretch/>
        </p:blipFill>
        <p:spPr>
          <a:xfrm>
            <a:off x="3635280" y="3645000"/>
            <a:ext cx="18543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Inhaltsplatzhalter 3" descr="Demming.jpg"/>
          <p:cNvPicPr/>
          <p:nvPr/>
        </p:nvPicPr>
        <p:blipFill>
          <a:blip r:embed="rId1"/>
          <a:stretch/>
        </p:blipFill>
        <p:spPr>
          <a:xfrm>
            <a:off x="4356000" y="1628640"/>
            <a:ext cx="2340000" cy="1871640"/>
          </a:xfrm>
          <a:prstGeom prst="rect">
            <a:avLst/>
          </a:prstGeom>
          <a:ln w="0">
            <a:noFill/>
          </a:ln>
        </p:spPr>
      </p:pic>
      <p:pic>
        <p:nvPicPr>
          <p:cNvPr id="628" name="Grafik 4" descr="assemblyft.jpg"/>
          <p:cNvPicPr/>
          <p:nvPr/>
        </p:nvPicPr>
        <p:blipFill>
          <a:blip r:embed="rId2"/>
          <a:stretch/>
        </p:blipFill>
        <p:spPr>
          <a:xfrm>
            <a:off x="539640" y="1916280"/>
            <a:ext cx="3311640" cy="2752560"/>
          </a:xfrm>
          <a:prstGeom prst="rect">
            <a:avLst/>
          </a:prstGeom>
          <a:ln w="0">
            <a:noFill/>
          </a:ln>
        </p:spPr>
      </p:pic>
      <p:pic>
        <p:nvPicPr>
          <p:cNvPr id="629" name="Grafik 6" descr="one person car.bmp"/>
          <p:cNvPicPr/>
          <p:nvPr/>
        </p:nvPicPr>
        <p:blipFill>
          <a:blip r:embed="rId3"/>
          <a:stretch/>
        </p:blipFill>
        <p:spPr>
          <a:xfrm>
            <a:off x="3276720" y="3716280"/>
            <a:ext cx="2195280" cy="1581120"/>
          </a:xfrm>
          <a:prstGeom prst="rect">
            <a:avLst/>
          </a:prstGeom>
          <a:ln w="0">
            <a:noFill/>
          </a:ln>
        </p:spPr>
      </p:pic>
      <p:pic>
        <p:nvPicPr>
          <p:cNvPr id="630" name="Grafik 7" descr="car production without people.bmp"/>
          <p:cNvPicPr/>
          <p:nvPr/>
        </p:nvPicPr>
        <p:blipFill>
          <a:blip r:embed="rId4"/>
          <a:stretch/>
        </p:blipFill>
        <p:spPr>
          <a:xfrm>
            <a:off x="5580000" y="4365720"/>
            <a:ext cx="1871640" cy="1347840"/>
          </a:xfrm>
          <a:prstGeom prst="rect">
            <a:avLst/>
          </a:prstGeom>
          <a:ln w="0">
            <a:noFill/>
          </a:ln>
        </p:spPr>
      </p:pic>
      <p:pic>
        <p:nvPicPr>
          <p:cNvPr id="631" name="Grafik 9" descr="kirschblüten.bmp"/>
          <p:cNvPicPr/>
          <p:nvPr/>
        </p:nvPicPr>
        <p:blipFill>
          <a:blip r:embed="rId5"/>
          <a:stretch/>
        </p:blipFill>
        <p:spPr>
          <a:xfrm>
            <a:off x="6948360" y="206064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632" name="Titel 1"/>
          <p:cNvSpPr/>
          <p:nvPr/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Grafik 8" descr="Japan flagge.bmp"/>
          <p:cNvPicPr/>
          <p:nvPr/>
        </p:nvPicPr>
        <p:blipFill>
          <a:blip r:embed="rId6"/>
          <a:stretch/>
        </p:blipFill>
        <p:spPr>
          <a:xfrm>
            <a:off x="7308720" y="2924280"/>
            <a:ext cx="1238400" cy="828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hteck 4"/>
          <p:cNvSpPr/>
          <p:nvPr/>
        </p:nvSpPr>
        <p:spPr>
          <a:xfrm>
            <a:off x="1835280" y="1700280"/>
            <a:ext cx="1584360" cy="1203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alibri"/>
              </a:rPr>
              <a:t>Eliminação de Desperdi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hteck 5"/>
          <p:cNvSpPr/>
          <p:nvPr/>
        </p:nvSpPr>
        <p:spPr>
          <a:xfrm>
            <a:off x="5148360" y="1700280"/>
            <a:ext cx="1800000" cy="1203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alibri"/>
              </a:rPr>
              <a:t>Estandar-dização de Proces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hteck 6"/>
          <p:cNvSpPr/>
          <p:nvPr/>
        </p:nvSpPr>
        <p:spPr>
          <a:xfrm>
            <a:off x="3780000" y="162864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KAI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itel 1"/>
          <p:cNvSpPr/>
          <p:nvPr/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5761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Grafik 11" descr="an-einem-Strang-ziehen2.jpg"/>
          <p:cNvPicPr/>
          <p:nvPr/>
        </p:nvPicPr>
        <p:blipFill>
          <a:blip r:embed="rId1"/>
          <a:stretch/>
        </p:blipFill>
        <p:spPr>
          <a:xfrm>
            <a:off x="6732720" y="5157720"/>
            <a:ext cx="1935000" cy="1452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 txBox="1"/>
          <p:nvPr/>
        </p:nvSpPr>
        <p:spPr>
          <a:xfrm>
            <a:off x="468000" y="1412640"/>
            <a:ext cx="8280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4f81bd"/>
                </a:solidFill>
                <a:latin typeface="Calibri"/>
              </a:rPr>
              <a:t>Credo do sistema TQM </a:t>
            </a: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: </a:t>
            </a: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Fazer certo as coisas cer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Diagramm 4" descr=""/>
          <p:cNvPicPr/>
          <p:nvPr/>
        </p:nvPicPr>
        <p:blipFill>
          <a:blip r:embed="rId2"/>
          <a:stretch/>
        </p:blipFill>
        <p:spPr>
          <a:xfrm>
            <a:off x="0" y="2206800"/>
            <a:ext cx="9156600" cy="4303440"/>
          </a:xfrm>
          <a:prstGeom prst="rect">
            <a:avLst/>
          </a:prstGeom>
          <a:ln w="0">
            <a:noFill/>
          </a:ln>
        </p:spPr>
      </p:pic>
      <p:pic>
        <p:nvPicPr>
          <p:cNvPr id="642" name="Grafik 10" descr="händekreis.jpg"/>
          <p:cNvPicPr/>
          <p:nvPr/>
        </p:nvPicPr>
        <p:blipFill>
          <a:blip r:embed="rId3"/>
          <a:stretch/>
        </p:blipFill>
        <p:spPr>
          <a:xfrm>
            <a:off x="3924360" y="3860640"/>
            <a:ext cx="1617480" cy="1079640"/>
          </a:xfrm>
          <a:prstGeom prst="rect">
            <a:avLst/>
          </a:prstGeom>
          <a:ln w="0">
            <a:noFill/>
          </a:ln>
        </p:spPr>
      </p:pic>
      <p:sp>
        <p:nvSpPr>
          <p:cNvPr id="643" name="Titel 1"/>
          <p:cNvSpPr/>
          <p:nvPr/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86680" indent="-4989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Sistemas de Qualidade </a:t>
            </a: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garantem que qualidade não é resultado do acaso,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mas que a qualidade de serviços pode ser replicada, treinada, avaliada, cada vez mais aperfeiçoada a base da avaliaçã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 sistema funciona  e é </a:t>
            </a: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sustentável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mesmo se há mudança nas equipes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orque processos são definidos e descri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Recurs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da organização (tempo, recursos humanos, dinheiro, etc.) são </a:t>
            </a: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usados cuidadosamente e sem desperdiç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or isso, a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 introdução de Sistemas de Qualidade é uma tarefa para </a:t>
            </a:r>
            <a:r>
              <a:rPr b="1" lang="pt-PT" sz="2400" spc="-1" strike="noStrike">
                <a:solidFill>
                  <a:srgbClr val="ff0000"/>
                </a:solidFill>
                <a:latin typeface="Calibri"/>
              </a:rPr>
              <a:t>lideres responsáveis pelos recur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itel 1"/>
          <p:cNvSpPr/>
          <p:nvPr/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Inhaltsplatzhalter 3" descr="mcel.jpg"/>
          <p:cNvPicPr/>
          <p:nvPr/>
        </p:nvPicPr>
        <p:blipFill>
          <a:blip r:embed="rId1"/>
          <a:stretch/>
        </p:blipFill>
        <p:spPr>
          <a:xfrm>
            <a:off x="5003640" y="2852640"/>
            <a:ext cx="2192400" cy="1800360"/>
          </a:xfrm>
          <a:prstGeom prst="rect">
            <a:avLst/>
          </a:prstGeom>
          <a:ln w="0">
            <a:noFill/>
          </a:ln>
        </p:spPr>
      </p:pic>
      <p:pic>
        <p:nvPicPr>
          <p:cNvPr id="648" name="Grafik 4" descr="toyota.jpg"/>
          <p:cNvPicPr/>
          <p:nvPr/>
        </p:nvPicPr>
        <p:blipFill>
          <a:blip r:embed="rId2"/>
          <a:stretch/>
        </p:blipFill>
        <p:spPr>
          <a:xfrm>
            <a:off x="684360" y="2205000"/>
            <a:ext cx="1790640" cy="1523880"/>
          </a:xfrm>
          <a:prstGeom prst="rect">
            <a:avLst/>
          </a:prstGeom>
          <a:ln w="0">
            <a:noFill/>
          </a:ln>
        </p:spPr>
      </p:pic>
      <p:pic>
        <p:nvPicPr>
          <p:cNvPr id="649" name="Grafik 5" descr="vw_de_banner_passat.jpg"/>
          <p:cNvPicPr/>
          <p:nvPr/>
        </p:nvPicPr>
        <p:blipFill>
          <a:blip r:embed="rId3"/>
          <a:stretch/>
        </p:blipFill>
        <p:spPr>
          <a:xfrm>
            <a:off x="1835280" y="3860640"/>
            <a:ext cx="1714320" cy="667080"/>
          </a:xfrm>
          <a:prstGeom prst="rect">
            <a:avLst/>
          </a:prstGeom>
          <a:ln w="0">
            <a:noFill/>
          </a:ln>
        </p:spPr>
      </p:pic>
      <p:pic>
        <p:nvPicPr>
          <p:cNvPr id="650" name="Grafik 6" descr="GM.bmp"/>
          <p:cNvPicPr/>
          <p:nvPr/>
        </p:nvPicPr>
        <p:blipFill>
          <a:blip r:embed="rId4"/>
          <a:stretch/>
        </p:blipFill>
        <p:spPr>
          <a:xfrm>
            <a:off x="2268360" y="5013360"/>
            <a:ext cx="1285920" cy="961920"/>
          </a:xfrm>
          <a:prstGeom prst="rect">
            <a:avLst/>
          </a:prstGeom>
          <a:ln w="0">
            <a:noFill/>
          </a:ln>
        </p:spPr>
      </p:pic>
      <p:sp>
        <p:nvSpPr>
          <p:cNvPr id="651" name="Rechteck 7"/>
          <p:cNvSpPr/>
          <p:nvPr/>
        </p:nvSpPr>
        <p:spPr>
          <a:xfrm>
            <a:off x="3348000" y="530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General Mo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feld 10"/>
          <p:cNvSpPr/>
          <p:nvPr/>
        </p:nvSpPr>
        <p:spPr>
          <a:xfrm>
            <a:off x="3639240" y="3716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V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feld 11"/>
          <p:cNvSpPr/>
          <p:nvPr/>
        </p:nvSpPr>
        <p:spPr>
          <a:xfrm>
            <a:off x="247536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Toy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Grafik 12" descr="Vodacom.bmp"/>
          <p:cNvPicPr/>
          <p:nvPr/>
        </p:nvPicPr>
        <p:blipFill>
          <a:blip r:embed="rId5"/>
          <a:stretch/>
        </p:blipFill>
        <p:spPr>
          <a:xfrm>
            <a:off x="6588000" y="3933720"/>
            <a:ext cx="2130480" cy="1798920"/>
          </a:xfrm>
          <a:prstGeom prst="rect">
            <a:avLst/>
          </a:prstGeom>
          <a:ln w="0">
            <a:noFill/>
          </a:ln>
        </p:spPr>
      </p:pic>
      <p:sp>
        <p:nvSpPr>
          <p:cNvPr id="655" name="Textfeld 13"/>
          <p:cNvSpPr/>
          <p:nvPr/>
        </p:nvSpPr>
        <p:spPr>
          <a:xfrm>
            <a:off x="790560" y="16286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4f81bd"/>
                </a:solidFill>
                <a:latin typeface="Calibri"/>
              </a:rPr>
              <a:t>Competição entre empresas base dos sistemas de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Grafik 14" descr="chin. autos.jpg"/>
          <p:cNvPicPr/>
          <p:nvPr/>
        </p:nvPicPr>
        <p:blipFill>
          <a:blip r:embed="rId6"/>
          <a:stretch/>
        </p:blipFill>
        <p:spPr>
          <a:xfrm>
            <a:off x="755640" y="43657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657" name="Textfeld 15"/>
          <p:cNvSpPr/>
          <p:nvPr/>
        </p:nvSpPr>
        <p:spPr>
          <a:xfrm>
            <a:off x="393480" y="530064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Chinese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Grafik 4" descr="assemblyft.jpg"/>
          <p:cNvPicPr/>
          <p:nvPr/>
        </p:nvPicPr>
        <p:blipFill>
          <a:blip r:embed="rId1"/>
          <a:stretch/>
        </p:blipFill>
        <p:spPr>
          <a:xfrm>
            <a:off x="3419640" y="1557360"/>
            <a:ext cx="2253960" cy="1871640"/>
          </a:xfrm>
          <a:prstGeom prst="rect">
            <a:avLst/>
          </a:prstGeom>
          <a:ln w="0">
            <a:noFill/>
          </a:ln>
        </p:spPr>
      </p:pic>
      <p:pic>
        <p:nvPicPr>
          <p:cNvPr id="659" name="Grafik 6" descr="one person car.bmp"/>
          <p:cNvPicPr/>
          <p:nvPr/>
        </p:nvPicPr>
        <p:blipFill>
          <a:blip r:embed="rId2"/>
          <a:stretch/>
        </p:blipFill>
        <p:spPr>
          <a:xfrm>
            <a:off x="1692360" y="2997360"/>
            <a:ext cx="2195280" cy="1581120"/>
          </a:xfrm>
          <a:prstGeom prst="rect">
            <a:avLst/>
          </a:prstGeom>
          <a:ln w="0">
            <a:noFill/>
          </a:ln>
        </p:spPr>
      </p:pic>
      <p:pic>
        <p:nvPicPr>
          <p:cNvPr id="660" name="Grafik 7" descr="car production without people.bmp"/>
          <p:cNvPicPr/>
          <p:nvPr/>
        </p:nvPicPr>
        <p:blipFill>
          <a:blip r:embed="rId3"/>
          <a:stretch/>
        </p:blipFill>
        <p:spPr>
          <a:xfrm>
            <a:off x="2916360" y="4581360"/>
            <a:ext cx="1871640" cy="1347840"/>
          </a:xfrm>
          <a:prstGeom prst="rect">
            <a:avLst/>
          </a:prstGeom>
          <a:ln w="0">
            <a:noFill/>
          </a:ln>
        </p:spPr>
      </p:pic>
      <p:sp>
        <p:nvSpPr>
          <p:cNvPr id="661" name="Titel 1"/>
          <p:cNvSpPr/>
          <p:nvPr/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Grafik 11" descr="sweatshop.bmp"/>
          <p:cNvPicPr/>
          <p:nvPr/>
        </p:nvPicPr>
        <p:blipFill>
          <a:blip r:embed="rId4"/>
          <a:stretch/>
        </p:blipFill>
        <p:spPr>
          <a:xfrm>
            <a:off x="6012000" y="2349360"/>
            <a:ext cx="1454040" cy="1033560"/>
          </a:xfrm>
          <a:prstGeom prst="rect">
            <a:avLst/>
          </a:prstGeom>
          <a:ln w="0">
            <a:noFill/>
          </a:ln>
        </p:spPr>
      </p:pic>
      <p:pic>
        <p:nvPicPr>
          <p:cNvPr id="663" name="Grafik 12" descr="sweatshop 2.bmp"/>
          <p:cNvPicPr/>
          <p:nvPr/>
        </p:nvPicPr>
        <p:blipFill>
          <a:blip r:embed="rId5"/>
          <a:stretch/>
        </p:blipFill>
        <p:spPr>
          <a:xfrm>
            <a:off x="4932360" y="3860640"/>
            <a:ext cx="2054160" cy="1355760"/>
          </a:xfrm>
          <a:prstGeom prst="rect">
            <a:avLst/>
          </a:prstGeom>
          <a:ln w="0">
            <a:noFill/>
          </a:ln>
        </p:spPr>
      </p:pic>
      <p:pic>
        <p:nvPicPr>
          <p:cNvPr id="664" name="Grafik 14" descr="chicken11.jpg"/>
          <p:cNvPicPr/>
          <p:nvPr/>
        </p:nvPicPr>
        <p:blipFill>
          <a:blip r:embed="rId6"/>
          <a:stretch/>
        </p:blipFill>
        <p:spPr>
          <a:xfrm>
            <a:off x="3462480" y="2666880"/>
            <a:ext cx="2219040" cy="1524240"/>
          </a:xfrm>
          <a:prstGeom prst="rect">
            <a:avLst/>
          </a:prstGeom>
          <a:ln w="0">
            <a:noFill/>
          </a:ln>
        </p:spPr>
      </p:pic>
      <p:sp>
        <p:nvSpPr>
          <p:cNvPr id="665" name="Textfeld 8"/>
          <p:cNvSpPr/>
          <p:nvPr/>
        </p:nvSpPr>
        <p:spPr>
          <a:xfrm>
            <a:off x="179280" y="191628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Excessos do Sistema TQ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Se o resultado justif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cada meio de explicitação  de homens e da natureza para aumentar a produtiv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feil nach rechts 4"/>
          <p:cNvSpPr/>
          <p:nvPr/>
        </p:nvSpPr>
        <p:spPr>
          <a:xfrm>
            <a:off x="971640" y="1989000"/>
            <a:ext cx="403200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Enabler“/</a:t>
            </a: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Capaci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feil nach rechts 5"/>
          <p:cNvSpPr/>
          <p:nvPr/>
        </p:nvSpPr>
        <p:spPr>
          <a:xfrm>
            <a:off x="5435640" y="1989000"/>
            <a:ext cx="2665440" cy="484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hteck 6"/>
          <p:cNvSpPr/>
          <p:nvPr/>
        </p:nvSpPr>
        <p:spPr>
          <a:xfrm>
            <a:off x="1116000" y="2781360"/>
            <a:ext cx="1152360" cy="295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Lidera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hteck 7"/>
          <p:cNvSpPr/>
          <p:nvPr/>
        </p:nvSpPr>
        <p:spPr>
          <a:xfrm>
            <a:off x="5580000" y="4869000"/>
            <a:ext cx="1079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0000"/>
                </a:solidFill>
                <a:latin typeface="Calibri"/>
              </a:rPr>
              <a:t>Resultados para a socie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hteck 8"/>
          <p:cNvSpPr/>
          <p:nvPr/>
        </p:nvSpPr>
        <p:spPr>
          <a:xfrm>
            <a:off x="5580000" y="3860640"/>
            <a:ext cx="107964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Calibri"/>
              </a:rPr>
              <a:t>Resul-tados /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hteck 9"/>
          <p:cNvSpPr/>
          <p:nvPr/>
        </p:nvSpPr>
        <p:spPr>
          <a:xfrm>
            <a:off x="5580000" y="2852640"/>
            <a:ext cx="1079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Calibri"/>
              </a:rPr>
              <a:t>Resul-tados 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Calibri"/>
              </a:rPr>
              <a:t>funcion-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hteck 10"/>
          <p:cNvSpPr/>
          <p:nvPr/>
        </p:nvSpPr>
        <p:spPr>
          <a:xfrm>
            <a:off x="3995640" y="2781360"/>
            <a:ext cx="1368360" cy="295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Proce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hteck 11"/>
          <p:cNvSpPr/>
          <p:nvPr/>
        </p:nvSpPr>
        <p:spPr>
          <a:xfrm>
            <a:off x="7020000" y="2852640"/>
            <a:ext cx="1297080" cy="295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Indicadores Chave para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des-empe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hteck 12"/>
          <p:cNvSpPr/>
          <p:nvPr/>
        </p:nvSpPr>
        <p:spPr>
          <a:xfrm>
            <a:off x="2627280" y="479736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Calibri"/>
              </a:rPr>
              <a:t>Recursos Técn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hteck 13"/>
          <p:cNvSpPr/>
          <p:nvPr/>
        </p:nvSpPr>
        <p:spPr>
          <a:xfrm>
            <a:off x="2649600" y="378936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Estra-té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hteck 14"/>
          <p:cNvSpPr/>
          <p:nvPr/>
        </p:nvSpPr>
        <p:spPr>
          <a:xfrm>
            <a:off x="2649600" y="278136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Calibri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feil nach rechts 18"/>
          <p:cNvSpPr/>
          <p:nvPr/>
        </p:nvSpPr>
        <p:spPr>
          <a:xfrm rot="10800000">
            <a:off x="1186920" y="5949720"/>
            <a:ext cx="6985080" cy="48420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feld 19"/>
          <p:cNvSpPr/>
          <p:nvPr/>
        </p:nvSpPr>
        <p:spPr>
          <a:xfrm>
            <a:off x="3023640" y="6021360"/>
            <a:ext cx="26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Inovação e 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Gerade Verbindung 21"/>
          <p:cNvSpPr/>
          <p:nvPr/>
        </p:nvSpPr>
        <p:spPr>
          <a:xfrm>
            <a:off x="2268360" y="3284640"/>
            <a:ext cx="57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Gerade Verbindung 23"/>
          <p:cNvSpPr/>
          <p:nvPr/>
        </p:nvSpPr>
        <p:spPr>
          <a:xfrm flipV="1">
            <a:off x="1908000" y="5063760"/>
            <a:ext cx="1346400" cy="20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Gerade Verbindung 28"/>
          <p:cNvSpPr/>
          <p:nvPr/>
        </p:nvSpPr>
        <p:spPr>
          <a:xfrm flipV="1">
            <a:off x="2268360" y="4246200"/>
            <a:ext cx="381240" cy="11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Gerade Verbindung 31"/>
          <p:cNvSpPr/>
          <p:nvPr/>
        </p:nvSpPr>
        <p:spPr>
          <a:xfrm flipV="1">
            <a:off x="3564000" y="3212640"/>
            <a:ext cx="647640" cy="2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Gerade Verbindung 34"/>
          <p:cNvSpPr/>
          <p:nvPr/>
        </p:nvSpPr>
        <p:spPr>
          <a:xfrm>
            <a:off x="3564000" y="4246560"/>
            <a:ext cx="431640" cy="11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Gerade Verbindung 36"/>
          <p:cNvSpPr/>
          <p:nvPr/>
        </p:nvSpPr>
        <p:spPr>
          <a:xfrm>
            <a:off x="3564000" y="5157720"/>
            <a:ext cx="43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Gerade Verbindung 46"/>
          <p:cNvSpPr/>
          <p:nvPr/>
        </p:nvSpPr>
        <p:spPr>
          <a:xfrm flipV="1">
            <a:off x="5148360" y="3141720"/>
            <a:ext cx="576000" cy="23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Gerade Verbindung 47"/>
          <p:cNvSpPr/>
          <p:nvPr/>
        </p:nvSpPr>
        <p:spPr>
          <a:xfrm flipV="1">
            <a:off x="5292720" y="4292640"/>
            <a:ext cx="431640" cy="25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Gerade Verbindung 48"/>
          <p:cNvSpPr/>
          <p:nvPr/>
        </p:nvSpPr>
        <p:spPr>
          <a:xfrm flipV="1">
            <a:off x="5292720" y="5229360"/>
            <a:ext cx="431640" cy="25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Gerade Verbindung 49"/>
          <p:cNvSpPr/>
          <p:nvPr/>
        </p:nvSpPr>
        <p:spPr>
          <a:xfrm flipV="1">
            <a:off x="3868560" y="3517560"/>
            <a:ext cx="432000" cy="2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Gerade Verbindung 51"/>
          <p:cNvSpPr/>
          <p:nvPr/>
        </p:nvSpPr>
        <p:spPr>
          <a:xfrm flipV="1">
            <a:off x="6659640" y="3284640"/>
            <a:ext cx="144360" cy="25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Gerade Verbindung 53"/>
          <p:cNvSpPr/>
          <p:nvPr/>
        </p:nvSpPr>
        <p:spPr>
          <a:xfrm>
            <a:off x="6659640" y="4317840"/>
            <a:ext cx="360360" cy="11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Gerade Verbindung 55"/>
          <p:cNvSpPr/>
          <p:nvPr/>
        </p:nvSpPr>
        <p:spPr>
          <a:xfrm flipV="1">
            <a:off x="6659640" y="5300280"/>
            <a:ext cx="504720" cy="2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Gerade Verbindung 57"/>
          <p:cNvSpPr/>
          <p:nvPr/>
        </p:nvSpPr>
        <p:spPr>
          <a:xfrm>
            <a:off x="6119640" y="3767040"/>
            <a:ext cx="0" cy="93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Gerade Verbindung 59"/>
          <p:cNvSpPr/>
          <p:nvPr/>
        </p:nvSpPr>
        <p:spPr>
          <a:xfrm>
            <a:off x="6119640" y="4775040"/>
            <a:ext cx="0" cy="93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Gerade Verbindung 61"/>
          <p:cNvSpPr/>
          <p:nvPr/>
        </p:nvSpPr>
        <p:spPr>
          <a:xfrm>
            <a:off x="3106800" y="3695760"/>
            <a:ext cx="0" cy="93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Gerade Verbindung 63"/>
          <p:cNvSpPr/>
          <p:nvPr/>
        </p:nvSpPr>
        <p:spPr>
          <a:xfrm flipH="1">
            <a:off x="3084480" y="4703760"/>
            <a:ext cx="22320" cy="93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feil nach links und rechts 52"/>
          <p:cNvSpPr/>
          <p:nvPr/>
        </p:nvSpPr>
        <p:spPr>
          <a:xfrm>
            <a:off x="1042920" y="1484280"/>
            <a:ext cx="6985080" cy="485640"/>
          </a:xfrm>
          <a:prstGeom prst="left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Comun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hteck 33"/>
          <p:cNvSpPr/>
          <p:nvPr/>
        </p:nvSpPr>
        <p:spPr>
          <a:xfrm>
            <a:off x="6659640" y="5084640"/>
            <a:ext cx="36036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hteck 39"/>
          <p:cNvSpPr/>
          <p:nvPr/>
        </p:nvSpPr>
        <p:spPr>
          <a:xfrm>
            <a:off x="5364000" y="3213000"/>
            <a:ext cx="216000" cy="1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hteck 42"/>
          <p:cNvSpPr/>
          <p:nvPr/>
        </p:nvSpPr>
        <p:spPr>
          <a:xfrm>
            <a:off x="3635280" y="5013360"/>
            <a:ext cx="36036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hteck 43"/>
          <p:cNvSpPr/>
          <p:nvPr/>
        </p:nvSpPr>
        <p:spPr>
          <a:xfrm>
            <a:off x="3635280" y="4149720"/>
            <a:ext cx="36036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hteck 44"/>
          <p:cNvSpPr/>
          <p:nvPr/>
        </p:nvSpPr>
        <p:spPr>
          <a:xfrm>
            <a:off x="3635280" y="3284640"/>
            <a:ext cx="360360" cy="21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hteck 45"/>
          <p:cNvSpPr/>
          <p:nvPr/>
        </p:nvSpPr>
        <p:spPr>
          <a:xfrm>
            <a:off x="2268360" y="5013360"/>
            <a:ext cx="35892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hteck 50"/>
          <p:cNvSpPr/>
          <p:nvPr/>
        </p:nvSpPr>
        <p:spPr>
          <a:xfrm>
            <a:off x="2268360" y="4076640"/>
            <a:ext cx="35892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hteck 54"/>
          <p:cNvSpPr/>
          <p:nvPr/>
        </p:nvSpPr>
        <p:spPr>
          <a:xfrm>
            <a:off x="2268360" y="3213000"/>
            <a:ext cx="35892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hteck 58"/>
          <p:cNvSpPr/>
          <p:nvPr/>
        </p:nvSpPr>
        <p:spPr>
          <a:xfrm>
            <a:off x="6659640" y="4149720"/>
            <a:ext cx="36036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hteck 60"/>
          <p:cNvSpPr/>
          <p:nvPr/>
        </p:nvSpPr>
        <p:spPr>
          <a:xfrm>
            <a:off x="6659640" y="3141720"/>
            <a:ext cx="36036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hteck 56"/>
          <p:cNvSpPr/>
          <p:nvPr/>
        </p:nvSpPr>
        <p:spPr>
          <a:xfrm>
            <a:off x="5364000" y="4221000"/>
            <a:ext cx="216000" cy="1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hteck 62"/>
          <p:cNvSpPr/>
          <p:nvPr/>
        </p:nvSpPr>
        <p:spPr>
          <a:xfrm>
            <a:off x="5364000" y="5084640"/>
            <a:ext cx="216000" cy="1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feld 65"/>
          <p:cNvSpPr/>
          <p:nvPr/>
        </p:nvSpPr>
        <p:spPr>
          <a:xfrm>
            <a:off x="464040" y="6211800"/>
            <a:ext cx="827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modelo EFQM ( European Foundation for Quality Managment)  considere uma certa ética em respeito aos indivídu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e ao meio ambiente e pode ser interpretada como uma versão  TQM aperfeiço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tern mit 5 Zacken 66"/>
          <p:cNvSpPr/>
          <p:nvPr/>
        </p:nvSpPr>
        <p:spPr>
          <a:xfrm>
            <a:off x="5292720" y="1125360"/>
            <a:ext cx="431640" cy="216000"/>
          </a:xfrm>
          <a:custGeom>
            <a:avLst/>
            <a:gdLst>
              <a:gd name="textAreaLeft" fmla="*/ 133200 w 431640"/>
              <a:gd name="textAreaRight" fmla="*/ 298440 w 431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432048" h="216024">
                <a:moveTo>
                  <a:pt x="0" y="82514"/>
                </a:moveTo>
                <a:lnTo>
                  <a:pt x="165029" y="82514"/>
                </a:lnTo>
                <a:lnTo>
                  <a:pt x="216024" y="0"/>
                </a:lnTo>
                <a:lnTo>
                  <a:pt x="267019" y="82514"/>
                </a:lnTo>
                <a:lnTo>
                  <a:pt x="432048" y="82514"/>
                </a:lnTo>
                <a:lnTo>
                  <a:pt x="298536" y="133510"/>
                </a:lnTo>
                <a:lnTo>
                  <a:pt x="349534" y="216023"/>
                </a:lnTo>
                <a:lnTo>
                  <a:pt x="216024" y="165027"/>
                </a:lnTo>
                <a:lnTo>
                  <a:pt x="82514" y="216023"/>
                </a:lnTo>
                <a:lnTo>
                  <a:pt x="133512" y="13351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ern mit 5 Zacken 67"/>
          <p:cNvSpPr/>
          <p:nvPr/>
        </p:nvSpPr>
        <p:spPr>
          <a:xfrm>
            <a:off x="179280" y="6165720"/>
            <a:ext cx="432000" cy="216000"/>
          </a:xfrm>
          <a:custGeom>
            <a:avLst/>
            <a:gdLst>
              <a:gd name="textAreaLeft" fmla="*/ 133560 w 432000"/>
              <a:gd name="textAreaRight" fmla="*/ 298440 w 432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432048" h="216024">
                <a:moveTo>
                  <a:pt x="0" y="82514"/>
                </a:moveTo>
                <a:lnTo>
                  <a:pt x="165029" y="82514"/>
                </a:lnTo>
                <a:lnTo>
                  <a:pt x="216024" y="0"/>
                </a:lnTo>
                <a:lnTo>
                  <a:pt x="267019" y="82514"/>
                </a:lnTo>
                <a:lnTo>
                  <a:pt x="432048" y="82514"/>
                </a:lnTo>
                <a:lnTo>
                  <a:pt x="298536" y="133510"/>
                </a:lnTo>
                <a:lnTo>
                  <a:pt x="349534" y="216023"/>
                </a:lnTo>
                <a:lnTo>
                  <a:pt x="216024" y="165027"/>
                </a:lnTo>
                <a:lnTo>
                  <a:pt x="82514" y="216023"/>
                </a:lnTo>
                <a:lnTo>
                  <a:pt x="133512" y="13351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feld 68"/>
          <p:cNvSpPr/>
          <p:nvPr/>
        </p:nvSpPr>
        <p:spPr>
          <a:xfrm>
            <a:off x="3502080" y="11970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modelo EF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ern mit 5 Zacken 69"/>
          <p:cNvSpPr/>
          <p:nvPr/>
        </p:nvSpPr>
        <p:spPr>
          <a:xfrm>
            <a:off x="5516640" y="4876920"/>
            <a:ext cx="431640" cy="217440"/>
          </a:xfrm>
          <a:custGeom>
            <a:avLst/>
            <a:gdLst>
              <a:gd name="textAreaLeft" fmla="*/ 133200 w 431640"/>
              <a:gd name="textAreaRight" fmla="*/ 298440 w 43164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432048" h="216024">
                <a:moveTo>
                  <a:pt x="0" y="82514"/>
                </a:moveTo>
                <a:lnTo>
                  <a:pt x="165029" y="82514"/>
                </a:lnTo>
                <a:lnTo>
                  <a:pt x="216024" y="0"/>
                </a:lnTo>
                <a:lnTo>
                  <a:pt x="267019" y="82514"/>
                </a:lnTo>
                <a:lnTo>
                  <a:pt x="432048" y="82514"/>
                </a:lnTo>
                <a:lnTo>
                  <a:pt x="298536" y="133510"/>
                </a:lnTo>
                <a:lnTo>
                  <a:pt x="349534" y="216023"/>
                </a:lnTo>
                <a:lnTo>
                  <a:pt x="216024" y="165027"/>
                </a:lnTo>
                <a:lnTo>
                  <a:pt x="82514" y="216023"/>
                </a:lnTo>
                <a:lnTo>
                  <a:pt x="133512" y="13351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7:26:37Z</dcterms:created>
  <dc:creator>bboetius</dc:creator>
  <dc:description/>
  <dc:language>en-US</dc:language>
  <cp:lastModifiedBy>bboetius</cp:lastModifiedBy>
  <dcterms:modified xsi:type="dcterms:W3CDTF">2012-02-01T14:24:43Z</dcterms:modified>
  <cp:revision>193</cp:revision>
  <dc:subject/>
  <dc:title>Folie 1</dc:title>
</cp:coreProperties>
</file>